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65E-51B0-4395-92AA-0E7660119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42D-C8BD-480D-BA49-92C3B32B6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9 cripple children on roof of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CE1-CA9A-40C9-9769-3FE065D1B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632-8D6E-4129-9A72-78D59DFF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C8A-5B63-4EB9-B7A8-FCFE4195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A78-451E-4880-8470-72E8AB44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744-2416-4EB1-8839-D1909AC6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BB2-1E5C-4788-BF12-C085063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1A1-16D3-415C-8143-2C8AFC75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610-D95E-405A-AEE2-BAA3B21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BF6-9C37-4494-8B9B-FFE76C1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995-92FF-4830-9811-67B7F62D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709-0827-4E70-A152-DEDC401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51A-E6EA-4C8A-A70B-06E222F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D6F-4281-4180-BB24-5F64350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6526-AA4A-43C8-BEF4-D942AD57E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ake a Loo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zoo.jpg"/>
          <p:cNvPicPr/>
          <p:nvPr/>
        </p:nvPicPr>
        <p:blipFill>
          <a:blip r:embed="rId1"/>
          <a:stretch/>
        </p:blipFill>
        <p:spPr>
          <a:xfrm>
            <a:off x="0" y="0"/>
            <a:ext cx="8991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desks.jpg"/>
          <p:cNvPicPr/>
          <p:nvPr/>
        </p:nvPicPr>
        <p:blipFill>
          <a:blip r:embed="rId1"/>
          <a:stretch/>
        </p:blipFill>
        <p:spPr>
          <a:xfrm>
            <a:off x="152280" y="0"/>
            <a:ext cx="87710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xercise.jpg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cripple.jpg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Notched Right Arrow 4"/>
          <p:cNvSpPr/>
          <p:nvPr/>
        </p:nvSpPr>
        <p:spPr>
          <a:xfrm>
            <a:off x="380880" y="457200"/>
            <a:ext cx="8458200" cy="228600"/>
          </a:xfrm>
          <a:custGeom>
            <a:avLst/>
            <a:gdLst>
              <a:gd name="textAreaLeft" fmla="*/ 56880 w 8458200"/>
              <a:gd name="textAreaRight" fmla="*/ 8401320 w 845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308" y="5400"/>
                </a:lnTo>
                <a:lnTo>
                  <a:pt x="21308" y="0"/>
                </a:lnTo>
                <a:lnTo>
                  <a:pt x="21600" y="10800"/>
                </a:lnTo>
                <a:lnTo>
                  <a:pt x="21308" y="21600"/>
                </a:lnTo>
                <a:lnTo>
                  <a:pt x="21308" y="16200"/>
                </a:lnTo>
                <a:lnTo>
                  <a:pt x="0" y="16200"/>
                </a:lnTo>
                <a:lnTo>
                  <a:pt x="1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1:35:51Z</dcterms:created>
  <dc:creator> </dc:creator>
  <dc:description/>
  <dc:language>en-US</dc:language>
  <cp:lastModifiedBy> </cp:lastModifiedBy>
  <dcterms:modified xsi:type="dcterms:W3CDTF">2012-03-05T02:19:49Z</dcterms:modified>
  <cp:revision>5</cp:revision>
  <dc:subject/>
  <dc:title>Take a Look What do you see?</dc:title>
</cp:coreProperties>
</file>